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37D-7BC8-4178-B273-170B3227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211-E59F-4921-80A4-5BBCA85B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79828-76F9-44E3-9945-76EEEDD5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62A2-8E4D-40AB-80C3-7DAB557B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462CD-DAC6-40FB-9023-8A4CCB8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4F3CF-1AF0-4407-B736-C1329625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1004-5A79-4B24-A74A-39176AB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0B25D-6AC0-4523-A966-8134BBF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8D0FD-BD20-4FA6-981A-11754ED5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0E1B6-C053-421B-AFA6-16A7CF68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8B2D0-02B2-4585-8D57-AF0F42BF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937A4-C06C-43C4-AB92-71C0E9D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DED-9CE9-4553-98D4-7768DA69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C79E5-166D-4D8E-9D57-42E55549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7E755-B2FA-4551-8B00-410CAAE1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E946-52C5-40F4-88F7-1498E49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DA8BA-5773-4818-9C7A-DF91B818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2CB9F-5E4D-417F-B75E-E57ECA8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9186F-182E-4C50-8703-167FEEF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A05E1-A768-431A-BFAA-0324F92F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4EF5C-87E8-4856-8B1C-92494BF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5824C-10C7-4DDD-98CA-D8A5B5A4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64E2C-6916-4032-91EB-F431386D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96D-865B-4EAC-9B8C-1CACF25F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CEDB0-90B4-4896-8713-FA1F115D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7C4A5-CE08-4CBC-BC29-50C55075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6EFC5-086C-46BC-9B74-2275FC5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65886-26CB-4258-A88C-BCF7966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1D068-06A6-4A5F-86E6-2036053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1067-EE40-4833-A41A-DB1FEE9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9A580-57C8-450D-83A6-C5F5850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85D0E-5C20-4194-A26C-B60E259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79269-2894-40F8-AA6F-660197E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1921-22DB-4718-AF99-342FE8F1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030-67C2-4F87-AAE2-D5103E79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4EB4F-09E3-44B4-B1DF-DBF3399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01C15-64A1-4D29-899E-61F385C0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E3BE5-1781-41B0-8299-1CE59921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89768-4584-4F8A-B9D1-9C7F630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82C1B-8D3A-4289-AA1D-0731B12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F6D8E-C6F1-410A-9213-177AFFF3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288CC-C4C5-4749-9D46-9A064046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EF5FA-E6E4-4BF1-8864-D9E3B46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3A72-5AA3-4D40-A2E9-23C2625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66EF4-FD75-4171-958F-03E43D12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9285-4A05-463B-A552-1C2362B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150A6-32CA-426B-BFDD-603A277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535E-506D-4128-B5BB-3AA2BFB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3B9F1-546B-4F71-B3B2-5AF290E3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9AE28-C80F-47C9-B1F3-9A3759C3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7660-9599-42C1-8FE4-CB030639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8858D-6BCD-4326-BBC4-3F8B7954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57C60-A21F-40F2-81C6-1EAD5323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0939C-45EB-4961-80F1-704CEFC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DEF55-B5F3-4E47-BA01-346588B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DA175-3CEE-46A3-A201-4E96AE8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77E4-6CC3-4E4A-B97A-4E190035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0316-7C0F-4560-84F4-9C740148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F61CC-0116-4721-908D-EABA857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01585-C228-475E-B821-CCAF3BA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C8B9B-1FAB-475D-91F1-90D2FBDE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184C4-1571-4043-9C5F-1B12354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3F0EE-E783-4552-81EF-E68842BC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9742C-8E25-41EE-BACB-E189BACA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A2EE0-FFD3-4659-9424-43434897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41626-3E00-4A6D-844B-A5F272BC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1ADFD-571D-4D6C-AA2A-AF2E9F4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D523-90CB-4E61-A650-2C14C3C6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62157-7026-4370-9195-AAE0AF41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DDA61-0E0E-4E6F-9178-59FF3867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8FD73-DE08-4172-A793-804963D7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1AEF4-6D70-428E-9105-1F3FAE7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D62B0-08AF-4210-B63A-A36DC42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0C89D-E211-4E83-966D-3C4FD391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8DF90-6BEA-467B-83D4-A0ED90A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E5C9D-A7BA-48FD-BA06-EDD96727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F61CA-DAE4-4E96-81FC-DB5AC32E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E1BB5-B670-4EC7-962B-7415929E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391-32D1-44E8-AA6A-470EDAF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2E5AB-6DF2-4176-A4F9-D0A408A6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36296-7388-449F-9A0E-972676F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12263-91BE-4BC8-8046-1C6D5674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19F5A-1106-4BA8-981C-69BA9430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52C74-734C-4979-97C3-5768649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F10EC-6DC4-464B-B5CC-6BCBB48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42872-CE56-48A9-9A6A-4B164FB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5D6FE-3676-4894-8E0F-EFE8207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FF929-F9B1-44C8-BD38-E303737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061AA-97DC-4994-AB23-48A3DDE5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5BC-844D-4CED-BD8A-A2E52B0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017D0-284D-4BBC-A1E5-FAD26974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6AA39-BA9F-458A-AA2C-66864620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2CC21B-DCD7-4401-B1D2-D2D9F57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A39AA-FAB5-4E82-BC87-C7F8AA0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FBD619-E84C-4F1C-8CB7-8743B064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9E6EE-8DEF-4773-87FE-9CCE0B53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80608-231C-4EEB-8F85-D8B9A6D8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8E933-86E8-4ED8-B243-7200DF5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13E92-A8D2-45FA-922A-3BC5D08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D793E-F74A-4E0D-A899-CAE4578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EC56-55E9-41C1-8019-34621CB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A36FA-FD24-4B0E-995C-CCFA6F6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4443C-B713-4160-98B7-E2306920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6F910-B58F-45A5-BBBD-ECE6B0DD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5E6F5-3FFE-4890-9ADB-006941EA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BFE97-F8CB-4396-BD6B-3F9F51D5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BF1F3-111F-4E3F-A5FD-DA123FB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BB0F1-591F-4261-8F83-586E348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7C3F2-96AF-4985-8084-000355CF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CB38D-EBA1-4E45-A033-C415223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6C5DD-7D27-482B-8D34-D5EB325F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538-7684-4CE0-8E8E-0C26E64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889-76D2-4350-81A5-1F8867FA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B8A44-B9F2-478D-842E-5F17803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3EF58-D42F-4469-85EC-4A34A5E3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527AF-5357-48D6-9D9B-9418BA11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A9A06-92C8-4DCA-AF2B-278BA62E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C44D7-927C-4020-8B81-6E553854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4CA69-0792-44F7-A94A-DACCB4B0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81CFF-B27F-4791-A571-FF22BC7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1AE16-715F-42B1-9073-42FDEE2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A9324D-52B3-438F-8356-78B6098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65EBB-27A1-4272-BD84-B7143B26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F1A7-B111-4102-A207-097FFDE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FF504-51E3-4FE0-920B-AB8BBC7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421A6-EEA2-41B3-9319-39AC87F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426DB-94AD-4B88-AC8D-D2894F1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050D47-2F9E-4130-8A80-C87C3014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2DB33-9E59-4922-8EA6-153A668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2B40A-E6DB-4748-A09E-AC25667C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3E680-5505-4707-8257-D6794CEE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ECC0D-5426-43A3-BCC7-87C59139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5FCB1-A14B-4DE2-86A0-E71ACF4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1C6BD-C37D-49AA-9CF7-23B8CFE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727-531E-4B84-9EBE-17112D0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220FA-D8A7-4629-AD1B-00CCF99F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5D806-0D01-4021-9B7B-03C57E06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7579A-0544-42C0-8401-248EEFA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7C240-8ADC-49DF-BDC9-A476597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0DE83-F39C-48D0-A892-07ED743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C0A53-2766-4BA5-88E8-85D96FD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E93CD-1189-40EE-A676-A6E9970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94E2B-A6CD-46C1-A2BF-EB6DFE30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3A674-C57F-46D3-9956-3E34D88D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037CF-F102-4B3B-8FD1-D1778F27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4BF-F470-4E17-9543-B35BEF9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B62D3-58DF-4277-833F-06C9127D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DA6AD-1C60-44C4-8250-341379EF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05DE0-9A44-4B32-977A-A0A0281E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2415C-02FE-4634-BC56-6D801D7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2F0BF9-3F96-4EDB-8294-F85BF2E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267F8-9F0C-4123-9937-FBF315E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617A4-ED56-4F77-9AC5-06F7DCE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EBF29-60D4-41DF-B361-F82E67D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56D66-CAE5-4909-B74F-4A2B0B1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7F48D-22A1-4413-8F7F-4A007A7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6E1-03C8-4496-BFEC-5C4472C6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48E28-1826-460F-9481-73AFCFAE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52378-0494-4EC0-889D-EF078DCF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5FC30-5A6D-4B12-A52E-AD77FBF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8A5D3-2A1E-48EE-BFEF-722DD6EB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EB766-FBE6-4C83-AC1C-43300E3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2184E-B8AD-4417-A1E5-ECA5795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0FA13-99F3-4E65-8B13-94FDC36F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B4D0D-6C93-4A22-8BBF-2A9BFE9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1E8EBC-59AF-4242-A817-F470BE4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D625A-8EBC-4090-9C94-C1F7097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9669-8F4C-4D7F-80E7-EF2949FB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41A2B-4E2D-4A44-944B-4AAD7C1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A5B35-C70B-4C2B-BCBC-79900389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FCD74-08C7-4678-B048-4BFEF39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901E-A706-4E03-B900-F0716A2E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41E1-F82F-46B3-BD2B-ECA4109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B573-B4F0-4ECB-8735-D285CA7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7C29-376E-44A1-985E-855A48E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9B6-B647-4CE0-9AE8-A895952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5C1B-DF8B-4D7E-A149-D9A79C76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FFBA-D346-4471-BD2F-A52E5DD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F939-BC81-4915-B04D-78CEDC7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ED4E-1BFA-4657-B51F-4B35040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6103-B71E-4A86-8FB6-BAFC128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4167-A2AB-4CA9-95A8-59E1CD34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C238-BC52-4F44-AF8A-F03E9655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6CB1-D18E-4AE3-8CA2-1C6D46A2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DFE3-1087-4EC7-AEEB-0774F66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9C06-9F1F-43BF-ADA7-EFE2058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869-002D-414E-95F8-34E461B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F412-BB62-4DB4-8F99-5C1BB48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4E2B-D36F-4375-9639-AB97D761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B2535-E018-4FCE-9FEA-81B0FC9D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79FE-C1AE-48FE-80A0-4911230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42A8-2A9F-4C89-985F-DBB4230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8531-F3FF-4463-8FFD-CF603E5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4664-239C-4F2F-8F1D-4CCC806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7B1B-B591-4032-90EE-21C122EF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1353-5EAF-4265-ABD2-E0054674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5CC9-3142-4544-84C7-26481C50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EE4-33DD-4E24-AF67-B4FA532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D8FE-30BF-4BDC-BCCD-499F706D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44D4-CAC1-4E5F-982E-DE1C60D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6DDF-6C38-4F6D-BE31-6799E59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12F1-E8EE-437E-8C05-634965F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D3B3-C4B4-4B1F-9D5E-14ACA8E0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51DE0-A71E-45E7-9611-79E3EA7C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3899E-CAEA-448D-9A60-715B3C9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14D6-DE03-401B-9037-B702D28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6B83-6C4E-4A2B-BA4D-63EDF551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AA60-8C1E-4CCD-A7ED-AF5096B3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1D3-E6B3-49BF-AAD3-56A186C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2FB8D-2F77-4D8E-A905-513F3D56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6606-5347-4012-999B-5EB012DA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28AD-9F4F-4CF2-B8CA-C986D02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1CAE-655E-41D4-9A7A-14BFC30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B604-9FAE-4E44-B3C6-E831CDB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73D1-C523-4902-AA59-A8D65B1C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FB01-9FC3-4050-BC46-03D1AF0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F2B0-BAE2-4EF7-8232-F778EB4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3E9D-300E-448D-A72D-E185BF4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F866C-E9F1-4242-956F-699883C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58F-AE7E-436C-B935-3F582151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4970-B9CB-4020-A18E-E3797C71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3600-3CF6-4E8E-848B-843834A0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D152-6CBB-4565-8E04-B2718D64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F04F0-4849-48CF-B543-189D5AD3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8ED6-305A-4CC8-B0CC-13FCCE9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5604-F823-4A6C-BCBB-95A47208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C1AD-722B-40A6-AEEC-9167DA44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ED13-A998-4588-B58C-6A0333DE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10041-C081-47FB-8382-63AB16D0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A7D2-F4A2-420B-BD5D-F270261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704-7A02-425E-AC12-551DCBF9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EBAFB-212B-4893-907C-4FD2FA4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6863-AC47-47BA-8781-9C7A8C6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D1D7-6B4D-497E-8B6B-061FF34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FC61-9D64-4A67-BFAA-60E6D016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00C85-8541-4C01-8750-A2DFECA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70DA3-3BB7-48D2-80EC-DB1A38B4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D5DFD-FC0D-40F7-B878-C144FB3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EA8F-8B20-435D-BA31-C68C295A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C97C-C5FF-4205-9CF0-C451DB1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3517-CE28-4642-B613-8ED8927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260-4DE8-4797-9DCF-31C7F5B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0DA9E-63C3-4D86-B4CB-39F87DAE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BACD-28BE-467A-984F-F361E8C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494FF-2744-4B36-96A0-3F175C5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029BD-D521-4711-8636-01F287A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B35E-6296-40D7-A289-14605198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2763-71C0-47D4-8A08-FEC984F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DE063-8323-4564-9102-162FEB7B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1DD43-7F48-465E-AB31-77CCA81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4AF73-6C90-4B7B-9CAE-3111E06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62077-A9DB-418B-908B-F4E0BAF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7363-796E-4E56-A9BF-3B5A0E72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1350-C71B-4BC8-BD5F-F17E8826F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2D3-7D81-4E53-924F-D67B430C26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DD7-3FAA-4974-8418-EE8F10360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9BD-95D7-400B-9D9E-C45050AE2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E6F3-1CBF-4490-A7EA-DCDF5574C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0D6-8A9A-47A2-B10D-446594A1E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BF14-1F18-4226-94FC-B0DC4CBDA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3972-E2CD-4C7E-B07D-04DB04618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712-365A-4612-BA53-B77A14A76C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1325-E656-40C4-A202-068F20603D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9BB7-082C-4770-84FE-6C46FAF704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E8FC-61C6-46FA-A480-D5BBDCDD0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C41-ADCE-47EC-AACE-EE977087D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D89F-5E30-4FF4-BD84-80341BEC2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D814-0F1B-46EC-A278-BE864B4D8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915A-6B60-4209-A942-48195DA60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79C7-82A4-4070-BE79-63BFF64EB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3576-6670-4CA5-8693-446657D4F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4F8-76E5-4A80-998C-850C084695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926-56D9-4027-8952-4E394EB7B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FA22-689D-4BA3-B24A-3C6E8816B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EADE-1928-49A9-8909-4FFDBD289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7E4-B66D-4FF6-B17A-A397BF5A0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FC9-14F1-4528-AB46-24575EF88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DCA-870D-406F-BC19-785505B3F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166D-7D67-4446-A46C-8679960BA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01E-AD9C-4ADD-9613-72494F0B5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55F-222E-463E-B398-74C3F3706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3877-9AA2-485D-854B-7798CBBB7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6779-4629-42BD-911C-622BFD0F0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4DBE-7CCC-4946-9BFC-B2480857E9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C22-40D5-4DE3-8D19-715CFF4EF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A713-728E-4DA8-A3DF-DDF296018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0A7-3F05-4E76-8F2F-1D1C43FA9B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97F-EE94-41C1-83A7-80F973BFB4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94F-7CFF-467C-B463-966EF4B75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597-201F-4730-A33A-2019BA5A6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74B-2EF9-4737-943B-AFA0DA8B1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1A1-B5D4-4EDF-A689-7515C0A1C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2833560"/>
            <a:ext cx="83581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000160" y="765000"/>
            <a:ext cx="5272200" cy="6034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511360" y="1163520"/>
            <a:ext cx="50245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9760" y="852480"/>
            <a:ext cx="8124480" cy="5791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2"/>
          <a:stretch/>
        </p:blipFill>
        <p:spPr>
          <a:xfrm>
            <a:off x="4500720" y="164952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3"/>
          <a:stretch/>
        </p:blipFill>
        <p:spPr>
          <a:xfrm>
            <a:off x="4500720" y="2281320"/>
            <a:ext cx="187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4"/>
          <a:stretch/>
        </p:blipFill>
        <p:spPr>
          <a:xfrm>
            <a:off x="5292720" y="2919240"/>
            <a:ext cx="1871640" cy="438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5"/>
          <a:stretch/>
        </p:blipFill>
        <p:spPr>
          <a:xfrm>
            <a:off x="3995640" y="3552840"/>
            <a:ext cx="25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6"/>
          <a:stretch/>
        </p:blipFill>
        <p:spPr>
          <a:xfrm>
            <a:off x="1754280" y="49928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866880" y="714240"/>
            <a:ext cx="7410240" cy="614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403280" y="2630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332000" y="39276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7696440" cy="562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"/>
          <a:stretch/>
        </p:blipFill>
        <p:spPr>
          <a:xfrm>
            <a:off x="3419640" y="22557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3419640" y="2852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5076720" y="3495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5"/>
          <a:stretch/>
        </p:blipFill>
        <p:spPr>
          <a:xfrm>
            <a:off x="3419640" y="474012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6"/>
          <a:stretch/>
        </p:blipFill>
        <p:spPr>
          <a:xfrm>
            <a:off x="3348000" y="59896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1414440" y="1633680"/>
            <a:ext cx="6315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338040" y="905040"/>
            <a:ext cx="84679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738360" y="1352520"/>
            <a:ext cx="7667280" cy="4791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3"/>
          <a:stretch/>
        </p:blipFill>
        <p:spPr>
          <a:xfrm>
            <a:off x="1403280" y="2558880"/>
            <a:ext cx="4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4"/>
          <a:stretch/>
        </p:blipFill>
        <p:spPr>
          <a:xfrm>
            <a:off x="1332000" y="3789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5"/>
          <a:stretch/>
        </p:blipFill>
        <p:spPr>
          <a:xfrm>
            <a:off x="1332000" y="50785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57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